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189-028D-4A69-B5D1-BF371F68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240-120C-4336-B3B3-2535488F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833-73D7-4A95-BA5A-BB8B594F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E5D-F05F-4DBF-9635-09272705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B9DC-C59B-4B28-8665-34E7EF51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FB18-105F-4887-B626-5020FF43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5116-6DD2-444F-9BF5-6CFEB290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6F55-19A5-443A-B7B3-5EE0E4CA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E4FA-F61F-4E30-9B50-7AB817ED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086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E31F-757B-4828-B67B-8C3DDC22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169F-D0FF-4A3A-B4DA-1A8ACB9A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637-8D78-4AB0-9DA0-83335C93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A6D1-4D60-42BA-AA41-067F761E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97E9-FD5F-4BF0-8D56-EA3A244B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6959-3CA3-44FC-AC16-47E5473C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DD06-6FAF-4F79-83C9-B92B8CD6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F173-2CC3-44DC-A932-905DF89D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D74-F38E-4A1A-B673-EEC1FD8F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80C-A3BA-47CF-A6A1-C2ECCF01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09B-CD14-4FAB-8865-8096451B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086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FD72-9558-4E6F-9D37-9661B60C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D55-2A03-4238-B2D6-93A5838E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0E4-16F2-4537-949F-ECBFA7C3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6596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332-3248-4CFF-97DB-D16C682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086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BB59-DD0A-417C-B541-70B67423D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7"/>
          <p:cNvSpPr/>
          <p:nvPr/>
        </p:nvSpPr>
        <p:spPr>
          <a:xfrm>
            <a:off x="0" y="0"/>
            <a:ext cx="330120" cy="6885000"/>
          </a:xfrm>
          <a:prstGeom prst="rect">
            <a:avLst/>
          </a:prstGeom>
          <a:gradFill rotWithShape="0">
            <a:gsLst>
              <a:gs pos="0">
                <a:srgbClr val="152c3a"/>
              </a:gs>
              <a:gs pos="100000">
                <a:srgbClr val="4a9a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6"/>
          <p:cNvSpPr/>
          <p:nvPr/>
        </p:nvSpPr>
        <p:spPr>
          <a:xfrm>
            <a:off x="270000" y="0"/>
            <a:ext cx="284040" cy="6889680"/>
          </a:xfrm>
          <a:prstGeom prst="rect">
            <a:avLst/>
          </a:prstGeom>
          <a:solidFill>
            <a:srgbClr val="4a9a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9"/>
          <p:cNvSpPr/>
          <p:nvPr/>
        </p:nvSpPr>
        <p:spPr>
          <a:xfrm>
            <a:off x="507960" y="0"/>
            <a:ext cx="168480" cy="68659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8"/>
          <p:cNvSpPr/>
          <p:nvPr/>
        </p:nvSpPr>
        <p:spPr>
          <a:xfrm>
            <a:off x="749160" y="23760"/>
            <a:ext cx="71640" cy="68724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1" descr="a_1"/>
          <p:cNvPicPr/>
          <p:nvPr/>
        </p:nvPicPr>
        <p:blipFill>
          <a:blip r:embed="rId2"/>
          <a:srcRect l="2176" t="0" r="0" b="0"/>
          <a:stretch/>
        </p:blipFill>
        <p:spPr>
          <a:xfrm>
            <a:off x="685800" y="685800"/>
            <a:ext cx="8458200" cy="5192640"/>
          </a:xfrm>
          <a:prstGeom prst="rect">
            <a:avLst/>
          </a:prstGeom>
          <a:ln w="0">
            <a:noFill/>
          </a:ln>
        </p:spPr>
      </p:pic>
      <p:sp>
        <p:nvSpPr>
          <p:cNvPr id="11" name="Rectangle 33"/>
          <p:cNvSpPr/>
          <p:nvPr/>
        </p:nvSpPr>
        <p:spPr>
          <a:xfrm>
            <a:off x="838080" y="685800"/>
            <a:ext cx="8305920" cy="5562720"/>
          </a:xfrm>
          <a:prstGeom prst="rect">
            <a:avLst/>
          </a:prstGeom>
          <a:gradFill rotWithShape="0">
            <a:gsLst>
              <a:gs pos="0">
                <a:srgbClr val="81cfeb">
                  <a:alpha val="1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31"/>
          <p:cNvGrpSpPr/>
          <p:nvPr/>
        </p:nvGrpSpPr>
        <p:grpSpPr>
          <a:xfrm>
            <a:off x="8381880" y="0"/>
            <a:ext cx="761760" cy="685800"/>
            <a:chOff x="8381880" y="0"/>
            <a:chExt cx="761760" cy="685800"/>
          </a:xfrm>
        </p:grpSpPr>
        <p:sp>
          <p:nvSpPr>
            <p:cNvPr id="13" name="Rectangle 14"/>
            <p:cNvSpPr/>
            <p:nvPr/>
          </p:nvSpPr>
          <p:spPr>
            <a:xfrm rot="5400000">
              <a:off x="8917920" y="464040"/>
              <a:ext cx="205920" cy="23148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 rot="5400000">
              <a:off x="8652600" y="464040"/>
              <a:ext cx="205920" cy="23148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 rot="5400000">
              <a:off x="8396640" y="466200"/>
              <a:ext cx="204840" cy="234360"/>
            </a:xfrm>
            <a:prstGeom prst="rect">
              <a:avLst/>
            </a:prstGeom>
            <a:solidFill>
              <a:srgbClr val="297cdd">
                <a:alpha val="85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 rot="5400000">
              <a:off x="8659800" y="232200"/>
              <a:ext cx="205920" cy="234000"/>
            </a:xfrm>
            <a:prstGeom prst="rect">
              <a:avLst/>
            </a:prstGeom>
            <a:solidFill>
              <a:srgbClr val="297cdd"/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 rot="5400000">
              <a:off x="8923320" y="220320"/>
              <a:ext cx="205920" cy="23436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9"/>
            <p:cNvSpPr/>
            <p:nvPr/>
          </p:nvSpPr>
          <p:spPr>
            <a:xfrm rot="5400000">
              <a:off x="8922240" y="-14040"/>
              <a:ext cx="205920" cy="23400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Rectangle 30"/>
          <p:cNvSpPr/>
          <p:nvPr/>
        </p:nvSpPr>
        <p:spPr>
          <a:xfrm>
            <a:off x="685800" y="0"/>
            <a:ext cx="114480" cy="68724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a_1"/>
          <p:cNvPicPr/>
          <p:nvPr/>
        </p:nvPicPr>
        <p:blipFill>
          <a:blip r:embed="rId3"/>
          <a:srcRect l="2176" t="0" r="0" b="0"/>
          <a:stretch/>
        </p:blipFill>
        <p:spPr>
          <a:xfrm>
            <a:off x="0" y="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2"/>
          <p:cNvSpPr/>
          <p:nvPr/>
        </p:nvSpPr>
        <p:spPr>
          <a:xfrm>
            <a:off x="0" y="2590920"/>
            <a:ext cx="9144000" cy="106668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207713338665"/>
          <p:cNvPicPr/>
          <p:nvPr/>
        </p:nvPicPr>
        <p:blipFill>
          <a:blip r:embed="rId4"/>
          <a:stretch/>
        </p:blipFill>
        <p:spPr>
          <a:xfrm>
            <a:off x="5867280" y="6037200"/>
            <a:ext cx="1022400" cy="7635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0" name="Picture 11" descr="1207713341725"/>
          <p:cNvPicPr/>
          <p:nvPr/>
        </p:nvPicPr>
        <p:blipFill>
          <a:blip r:embed="rId5"/>
          <a:stretch/>
        </p:blipFill>
        <p:spPr>
          <a:xfrm>
            <a:off x="6967440" y="6039000"/>
            <a:ext cx="1025640" cy="761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1" name="Picture 12" descr="20100414001"/>
          <p:cNvPicPr/>
          <p:nvPr/>
        </p:nvPicPr>
        <p:blipFill>
          <a:blip r:embed="rId6"/>
          <a:stretch/>
        </p:blipFill>
        <p:spPr>
          <a:xfrm>
            <a:off x="6970680" y="5126040"/>
            <a:ext cx="1022400" cy="762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2" name="Picture 13" descr="1207727801853"/>
          <p:cNvPicPr/>
          <p:nvPr/>
        </p:nvPicPr>
        <p:blipFill>
          <a:blip r:embed="rId7"/>
          <a:stretch/>
        </p:blipFill>
        <p:spPr>
          <a:xfrm>
            <a:off x="8088480" y="5121360"/>
            <a:ext cx="1019160" cy="765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3" name="Picture 15" descr="1207727801397"/>
          <p:cNvPicPr/>
          <p:nvPr/>
        </p:nvPicPr>
        <p:blipFill>
          <a:blip r:embed="rId8"/>
          <a:stretch/>
        </p:blipFill>
        <p:spPr>
          <a:xfrm>
            <a:off x="8077320" y="6031080"/>
            <a:ext cx="1019160" cy="761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086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773E-73DE-4FDA-86A1-C3695E149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足迹研究概况、拟开展的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及存在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9-29T03:08:48Z</dcterms:modified>
  <cp:revision>2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